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9DED-C170-4AB4-BDA2-80C3D95C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FFA3-672A-48FE-BFEB-02B5BA0F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7B280-6A38-4081-91EB-1B5179DC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4C309-5EA6-47DC-B330-7231D91F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32B07-D870-47C3-BF38-33EA2703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02F6A-2BEB-494D-853F-8C44C055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13F9F-9C57-421B-9F9C-0F29CCBC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E7835-49F1-453C-BB39-921571AF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82BDB-0416-4227-BDDA-A40AC9F5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3931F-D98B-4094-B7C8-E6B97C79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CD3FD-CBB9-4078-9E08-32CD1740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9512A-2C84-4ECC-B6CD-D3AD6799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3D8C-6D11-4209-82BE-CE3F58A2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B56DA-F5BB-478E-BD44-B0C512E4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9CB6B-3B56-4500-9F33-5F0B3A5D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38A37-2D4F-4010-9FC8-BA4FDE0E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53C29-D982-463E-8A36-40234659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25136-937B-4D76-819F-F3B32A30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CADCB-C199-44E6-A49E-5A2ACFBC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67F86-CB3E-4B8A-81E8-9494BA0C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9B08C-15B8-4970-A1B0-68B76490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A7386-26E9-4BE6-BAD6-54775944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1F2E1-C713-4151-AEA1-B398A5FD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35BE-1D83-45F5-890C-F2AA7395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80C4D-AF11-47FF-BBDA-7A517AE4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CBB37-0AE0-482B-ADA9-5FA3A22E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AFC43-FA67-4403-A16E-AF6ECDB5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24416-5989-4561-AA0B-A6CBE013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71BF9-CB4D-440B-8B1E-20419608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7B85D-E579-4D2F-8C6B-5BB1FE04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C8DE9-0DF7-4B72-B1D6-944CFD72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C6E8E-AADE-43D3-980B-00F88ED4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15645-4E37-45BD-B030-EF3FB188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9B2D2-AC30-427D-8937-48A1A5C5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AB16-5530-40B1-A3F7-44A4D1E0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4D236-FF65-4DB3-8B54-20C71174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37D62-1F34-4CFD-BA9B-1A31CCC3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4D374-7360-4EBC-B06B-E4569839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FA420E-8BBF-4DE9-AC27-B087A6D4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0794A9-5725-4D2D-ACD6-3AB628C3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8169C-A99C-45D2-A1F7-6EAA5279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33B42-7A00-4A2B-A587-3DB5F3CD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E7B768-50B7-4098-B6F5-46F0D469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97A14-69D9-4087-AFA7-632D9A6E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936AD-A43E-41B2-876A-57196D0D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B4BA-F07B-4E98-AF94-21AF863F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34492-A6FD-4453-B3FF-D9F9EA57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BD45D-B091-4361-9D20-3EA2F53C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BB8E57-DF47-4686-8B44-D5897864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3030B-1DD0-41A2-8C15-23BC2121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C9F23-59E1-4609-9641-9D11C276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A8E310-337C-4778-9975-6071847A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C5C88-CF7E-433D-A251-6188DAE8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D0C17C-B00F-43A2-9B61-8E608CBB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74A6A8-26E8-490A-97F9-279DF9A4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1587AF-BFF1-4D85-A47D-2184D0E9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E607-0D4D-46F7-A6AC-BB381404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AF5959-2070-42C8-8DB5-30C365A1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2CFED1-34DE-47CD-BF06-CE1530AE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C9D0D0-038F-4713-801B-3F8A06C0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1734EE-2DC1-4F50-9B27-EF6AD418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5D2448-F40B-49F2-9693-4D150187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4EB15C-089E-4930-A232-96ED52F5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6DDE8A-FFF5-4199-8636-72EDC7E8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F7BCCE-EED8-406A-BE26-1B0B70AA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206667-EF7F-42D1-AC96-4EF74792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5D62AB-0E3A-47C0-BB44-D4237567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4BDB-8951-447F-9BCD-ADA62FDA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7FAC23-8ABE-4B7D-ACC2-B25EEFA8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54FF1B-43E8-4F3D-809D-FE101D00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1DFC92-CA68-40D2-A551-B2EAE90E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1873B6-D3BD-435F-BEE0-6914ED12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CE9A51-9E18-47F8-AAD7-A36ECACA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39833D-2911-4B40-8A62-7089E3B8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CD8A90-1EA1-450D-B827-1CE9AC1E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F40DFA-A3D6-4BB0-B53E-7FA4B218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4EFEDB-DCC1-4F5D-9FEE-7EA8A303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11F59C-4847-46B9-8297-7798AA44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380A-80E8-46DE-BF79-EE5CC1D0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B0A231-2201-43A3-9D2F-45122713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7D0537-1E0A-4022-83F7-1AE000ED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713DE5-49B3-4514-B090-85F73AF8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931AE4-3D05-44EE-B249-44F78121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95FC68-D9CC-4010-879C-F979F7E7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3E20B4-0A41-406D-BBF7-163C7A76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1276B0-6816-45CF-BDA3-D723DE7A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1DCA0C-8ED6-411B-8195-B496FB00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B235DE-2725-47C0-8E56-82313D4A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A3F084-5590-4E3E-94E5-CAFE0E91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E326-1A58-4884-9DC3-FC34257F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64AE29-C07F-4A22-90DE-94886C2E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8E8949-0C1C-43A6-BAB3-32E9519E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8CE9E8-10A8-406D-8144-D9560237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79BDFF-5A3B-427A-82AC-B4DCE90D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702C9B-F428-4424-962D-6F697FC4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F621FA-EE5A-49CD-BFAB-1BD0FF91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C4D573-7769-455C-ADE3-719F328E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C0E325-A0CD-48C2-8AC5-B61AB331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ACAD90-3BE6-4A33-ACB8-292D7F99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30AF4A-64FF-4FDD-81E8-21C479C6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3856-6833-42B5-A20C-444FF31A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D4F9AD-E154-4518-9F7D-8453EA45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0950AE-88C2-4BD3-B8A8-4B2EE79A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125BD4-5265-4DDD-B9B0-B8FA0FB5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76C00D-F665-4EF0-9EEB-FDD993D8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8DE7DC-1D7D-4223-A658-03244BA2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113E16-DC7B-415F-8590-21EF5362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6F59CB-BF8B-4FE6-862A-0ADECF30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33CA35-F786-4F0D-A127-6F8EAA98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807D5F-1D80-456C-B593-0749F93C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E97A28-8349-4AC2-9972-890F38EA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5FC2-7A52-4BAE-A7E6-8F729C88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D2CE-96B5-4606-8D4D-F8928679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0534A9-FC90-4388-A28B-0BB2CC91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816625-3936-445C-8A1F-7F3320F9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177AD6-08B9-4C1A-B286-93C59DF4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4F996D-AB69-4769-91D1-8A8AF89B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F8BC91-30D0-43F5-97C9-BD2CEF21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137A91-E625-4539-AF9D-49483A35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CFB14B-F661-4753-9C53-E441B574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422949-84CD-432A-A461-56830D48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0C5AC9-B134-4642-B40F-B4A88B22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73B1D3-437B-4193-9308-85464A11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E63A-E7B1-4855-A225-AAD3BC7E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082B41-9613-4D90-A4FE-0BE8565F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9E48B9-AE61-4302-942D-31980F53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7459C7-C2D8-47B3-9F1B-38D03940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3D4A26-232E-46F6-9928-22B526C2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553965-9D2F-4BB5-9164-F0B61796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2EBDFF-BAD4-45DA-A1C0-4CB645CC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18463C-14C2-496D-9B67-90F1DC35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B80FA5-5234-4A64-A7A3-86C57340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59AB78-C962-41ED-8692-6068EC3E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D20BB1-AE36-4AB0-B90B-F9E4232D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A6AA-3B80-4767-9E36-04D0BFAD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D7E10E-2191-49F6-94AD-7CEDD9E8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0E38D7-DBE7-48AB-9C88-2044C2FB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FD42A7-B138-403D-8129-9EF265AE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48DA18-8FE2-457A-B086-10A80761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554875-2723-4742-925F-35AD239E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5678FE-6C6A-438A-8A56-B4E977C3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E5337D-DBF7-4E69-A7C1-12B4D41E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653178-AD27-468F-B656-89D12AC8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CDE6DD-16A3-472E-B56C-FBCBEBC3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798387-4062-4614-8D1A-A2BD9339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815E-1A58-49D1-957E-596ADAAC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8FEE0F-844B-4927-B2C7-2727D9EB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96070E-EE40-4D14-8FC5-A2BF1E63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97133B-BF22-4C14-9F49-19871E25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C59E01-1AE5-48BD-83CA-6270B77E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DFF7A9-7184-4685-8C91-806E47AE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B4E9DA-6D51-4983-B094-81629A29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21D1CC-7884-4B2A-9A31-500121A1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ABF120-E4E1-4C83-A2B3-7C5C6DC1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FDFCBC-87FC-481A-9FCB-454A39DD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73D821-2A8E-4119-96EC-AEE4C321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5B72-1D93-4AAA-AB63-F09067F6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65270A-EE33-4D23-9C92-FA307053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144F53-D5C5-49E7-AA1B-9156AAB9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242E15-5B11-474B-842E-F1001FC1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E5A19A-BE5A-4CED-A587-23F3E086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DF8A80-0B3C-43AB-B1DC-81FD6D6C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34190A-1198-4877-AB77-5289E506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4CA908-FD09-41F1-8366-DCB7788F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F32FE3-567E-4586-B988-ABAA65A5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90AEE5-FF1D-4004-AFA7-CB92784B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531B71-D978-4ACE-8C18-70002AB1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D6D9C-C734-46BB-868B-6E485833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8CD1C6-7B29-4314-94C0-78DFBBB7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35F57E-6FA9-4025-9E55-D837CC6E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1AA06C-D55A-46EE-8B01-55F66960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2A4C6A-7961-48C8-8E84-E52F8AD2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DB25DD-37E1-4EDB-99E8-6E95919C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07CB95-69DB-45B9-A241-7DF4CFFE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47F03F-8EB3-4461-B9F1-BE655B13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6B8D31-71AE-4A03-A770-645022DA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2CF362-FED7-4EF6-8456-CD4735AF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37B942-0166-4534-BF22-DAD54DBA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4B825-23E1-4660-BC2D-5B08E933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FA56A2-40DB-4EBD-BB20-418F8F8D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B89DBE-74C8-4032-A811-44851FE1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0F4065-C859-424B-8FFA-6E3BEADF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63169E-4119-441D-9ECD-42F91D9C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607202-F3A1-4D7C-A5CD-B9646461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461B53-AF08-4580-9C50-834A013B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D93ECD-4657-4AD8-B750-7764F325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A87D7D-B8FF-4ACE-A695-5774E958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A87995-2316-408F-8878-5D5C860C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4FBFD1-E586-4B53-9FF6-A0FB5248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F58DA-0070-4231-A0F9-26E87D19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2ABF61-2CB9-434A-85EC-6390849D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0BC879-8FCA-40D8-8B0C-554DB5FB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F8C0AF-0D24-40D2-B6D3-32B659C3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E6ABCF-4FA5-48B4-9C6B-6662288D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A9DB83-78D6-40B6-83C6-F0A3E066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F77E9B-1097-4273-A633-08518E8D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A1575E-6C0F-429E-BB69-E74322B3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DA98C-030D-4F0C-B7BF-29E7CF14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21F24-310C-450A-BC4C-F5D2519A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6B79-6A17-44AF-911C-FE0957C4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FFB85-946C-41C0-B5F3-D8FDDC75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99255-D052-4E05-9EAD-3A7E04C7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54F8F-464A-4F66-AB06-D23E0A24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17A65-50F0-4CE8-9D4E-09FC5C38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2BCE7-E186-4F58-A13D-7C71226C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04CD1-16DE-436F-A305-AD4D2C6E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EB67C-2B64-46C8-BF26-AC3C4EC1C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E27A0-BA6C-4D71-AB13-2247F689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7C17A-3776-4D3D-9CED-9060CA14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256F6-5412-43B0-8478-2B8F28CA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5809-5828-45FE-B691-CB1169FC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3704A-CF85-4A08-9F23-2B3C2E67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EDA3E-07D2-4C60-8D5D-CA6CCBFC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214B8-3923-4BF1-9845-66562CFB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6B339-EEBB-4B0F-A99F-925CB8B1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0B57F-5A41-4FA4-AAF6-BA31CE7F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8D6C0-7F64-49FD-A2A3-513DFB80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EE30A-5938-4A4D-A111-DED020D1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38423-C146-4DAD-A15D-97440485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1F730-B7B7-4D07-A762-4FF05E4B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9BE19-4A29-46EF-8F01-49804A41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C7C6-77C2-4920-BA6B-A335F23D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551AA-066D-45F8-8C07-A4EC843E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92667-9036-4766-BECF-D02BE335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43F09-1652-493D-9742-19818D6E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BD47A-94F2-48B3-881F-FF4B274F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A918F-0D30-4C78-A87C-3102A2A2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205E5-334E-40C4-94B5-EA85C1A4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7EA82-A9C7-459B-93B4-1D6F67DA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9D0DE-3D78-40DB-B73C-736CAEAF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B231E-033D-43DF-B6FD-A6F7E035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3738B-C3AA-4ED0-98BB-6B05C7C5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F7E5-69F2-4273-84A8-A9F01210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7EC6A-6EC0-441C-B488-58E81406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A6990-D08C-4831-82C2-CAAF1C52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79985-79C8-430D-8C14-E6AF3858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4014A-3FDC-43DE-AD3B-67D1D96B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5AD2E-3232-4B1A-B36F-E32CF0E6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96EEB-BC47-4EBE-9106-50DD855E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068EF-7586-4208-A998-80A3D4D5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F1627-C171-4BEB-BB3C-FE2C6B1A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3F5E9-4406-4EA9-BEB8-A0D89AB4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6BBEB-AEB9-4084-801E-51F96147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24EC-EEDD-4B5E-91FF-F1BE9D78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ABAD4-6900-4C2F-9A3E-63FF218A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285A9-96F2-4A03-9E7C-BE7C6893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DE8DC-55FD-426B-BB75-C16C7100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3843D-C1F6-47A4-B065-51E3D923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32607-C205-4360-A360-62067E46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11972-AFB8-4992-9271-06695AED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D5BAE-5653-409A-98F4-D8A29C85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19B3B-AC6A-4963-A01C-08D59557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1AE27-B070-464E-B434-8BA0BDA3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AD6F1-F485-433C-B97B-E07C3F29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99FA-FFB4-414E-86F3-0B16A27C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FACB1-8607-494F-B3C2-AD407835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D1AB0-F959-46E6-ACD3-8F5CF095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218F1-EB30-4DF9-AE20-261435A0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7344B-F1B0-4FED-8AA3-9D9C7F89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40423-9BF6-4960-8EB4-10550A25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555E4-66F8-4C41-8552-635243B5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88F0E-7D82-41D6-A3BE-6EBC8A47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A3FDE-5BA7-487C-840F-4B2B7FD6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C4746-CB34-4D7B-9D98-F0C83048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29A25-2EE7-4844-9007-6C685F34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96F6-E64E-41C1-BA9E-B2C3FFFD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CE889-E895-495E-B9CE-7D45EF5B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23D41-49C2-47B3-850E-9BFDA256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1FEA3-9443-4B62-A840-A6B8D117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41BCD-D75E-41DC-9275-F5C9A340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AC0A6-2DB3-4A2D-AAA5-DEE2E9B3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015EE-15E7-4355-AD9B-3766B225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2C35E-54A8-45C7-B2C6-63B0638F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E9A72-525C-4309-9F4D-1F1305C42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5BE04-1151-43E1-A045-311BD42C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EC8DA-E75A-4EE3-8C8B-B0BBE978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9BDF-37A2-4872-AAF2-3CD75E7BCE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7EB2-A6E3-4604-8FB0-F950B89DEE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1CA2-62CD-4CFE-97F5-4FF72C8894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8EA0-ECA8-4A51-84A1-87CB86888D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74CC-0927-4E31-BDA4-DF7828ACEB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1A62-BC71-429E-9478-64A67128D5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1702-1D19-49A4-BABE-63D41F8E9B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ECA5-31A5-44BD-BB62-40CF22717A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3E2C-71F6-4464-BF19-9A8DCD4A85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B7C2-6AD9-4232-BF6E-5684D0B457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48F8-14C0-4DF8-AE04-98A8193769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526E-845B-4E30-917E-6C7FEC2971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27DE-0737-44F3-BDFA-DB86AB7966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935A-7A2B-4325-87DB-5670E89877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0241-FDC5-4540-975C-BDB4BA7A7B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D154-8134-41DC-944C-FDE30CACDF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C676-C64F-4A27-95DD-18D16A3B22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9CB2-E4AF-4310-B526-5BFCF5006C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4B74-FA21-48B9-8CCC-B215730F02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083D-6C67-4AFB-8739-DA9D7C6797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8BEE-182E-4BF3-9032-E38C3ADEDB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CF37-257D-4E09-999B-E0E23D6D0A0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0806-8A7C-4EF4-9B38-5203B4CF3C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F59C-CF5B-44F4-9802-7C2460E2BD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0FF9-EB07-4489-B48C-723A891F1F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4CAE-0830-4F59-8533-6D4B859A17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A33D-8479-41E9-A97A-FA772AAE80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4164-A4FC-4469-9623-1713A92B55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EF51-9CE6-4B97-8C8E-216834EE90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FA17-C81D-4497-8A07-5410C4BC26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8ABB-7E72-46CF-8B51-0CC1DE6129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F9DF-4E2B-454D-A0D4-14A5E35320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1737-92A4-4605-8FEF-DF68432F4E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920A-6E6E-4236-B3BC-F88B06781E7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9C89-B320-4B12-88FC-7602C4176C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2B12-B4B5-4CD7-877F-50B448190C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B0A3-74A0-4B2F-B5E6-4CD76CEDBF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110A-3917-4E2C-B72C-C990E85ABD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BBFC-4881-4169-B626-356F1EA22E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5980-A186-43C2-A253-447460112C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B808-48BB-4498-B350-6F767D0668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681C-FF5D-4BAA-BF7A-A58E8B44A1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685960" y="3014640"/>
            <a:ext cx="37720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200160" y="1085760"/>
            <a:ext cx="874368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图片 1" descr=""/>
          <p:cNvPicPr/>
          <p:nvPr/>
        </p:nvPicPr>
        <p:blipFill>
          <a:blip r:embed="rId1"/>
          <a:stretch/>
        </p:blipFill>
        <p:spPr>
          <a:xfrm>
            <a:off x="338040" y="2238480"/>
            <a:ext cx="8466120" cy="238104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2"/>
          <a:stretch/>
        </p:blipFill>
        <p:spPr>
          <a:xfrm>
            <a:off x="971640" y="2233440"/>
            <a:ext cx="1368360" cy="4129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3"/>
          <a:stretch/>
        </p:blipFill>
        <p:spPr>
          <a:xfrm>
            <a:off x="3924360" y="2233440"/>
            <a:ext cx="1368360" cy="41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4"/>
          <a:stretch/>
        </p:blipFill>
        <p:spPr>
          <a:xfrm>
            <a:off x="7164360" y="2262240"/>
            <a:ext cx="1368360" cy="41256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5"/>
          <a:stretch/>
        </p:blipFill>
        <p:spPr>
          <a:xfrm>
            <a:off x="1042920" y="2838600"/>
            <a:ext cx="1368360" cy="4125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6"/>
          <a:stretch/>
        </p:blipFill>
        <p:spPr>
          <a:xfrm>
            <a:off x="3995640" y="2851200"/>
            <a:ext cx="1368360" cy="41256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7"/>
          <a:stretch/>
        </p:blipFill>
        <p:spPr>
          <a:xfrm>
            <a:off x="7236000" y="2867040"/>
            <a:ext cx="1368360" cy="41256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8"/>
          <a:stretch/>
        </p:blipFill>
        <p:spPr>
          <a:xfrm>
            <a:off x="1042920" y="3457440"/>
            <a:ext cx="1368360" cy="41292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9"/>
          <a:stretch/>
        </p:blipFill>
        <p:spPr>
          <a:xfrm>
            <a:off x="3995640" y="3457440"/>
            <a:ext cx="1368360" cy="4129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10"/>
          <a:stretch/>
        </p:blipFill>
        <p:spPr>
          <a:xfrm>
            <a:off x="7236000" y="3457440"/>
            <a:ext cx="1368360" cy="4129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11"/>
          <a:stretch/>
        </p:blipFill>
        <p:spPr>
          <a:xfrm>
            <a:off x="1116000" y="4005360"/>
            <a:ext cx="1368360" cy="4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00160" y="938160"/>
            <a:ext cx="874368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200160" y="790560"/>
            <a:ext cx="8743680" cy="527688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2"/>
          <a:stretch/>
        </p:blipFill>
        <p:spPr>
          <a:xfrm>
            <a:off x="611280" y="2624040"/>
            <a:ext cx="504720" cy="4129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3"/>
          <a:stretch/>
        </p:blipFill>
        <p:spPr>
          <a:xfrm>
            <a:off x="611280" y="3213000"/>
            <a:ext cx="504720" cy="4129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4"/>
          <a:stretch/>
        </p:blipFill>
        <p:spPr>
          <a:xfrm>
            <a:off x="611280" y="3789360"/>
            <a:ext cx="504720" cy="4129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5"/>
          <a:stretch/>
        </p:blipFill>
        <p:spPr>
          <a:xfrm>
            <a:off x="611280" y="4437000"/>
            <a:ext cx="504720" cy="4129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6"/>
          <a:stretch/>
        </p:blipFill>
        <p:spPr>
          <a:xfrm>
            <a:off x="611280" y="5013360"/>
            <a:ext cx="504720" cy="41256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7"/>
          <a:stretch/>
        </p:blipFill>
        <p:spPr>
          <a:xfrm>
            <a:off x="611280" y="5661000"/>
            <a:ext cx="504720" cy="4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图片 1" descr=""/>
          <p:cNvPicPr/>
          <p:nvPr/>
        </p:nvPicPr>
        <p:blipFill>
          <a:blip r:embed="rId1"/>
          <a:stretch/>
        </p:blipFill>
        <p:spPr>
          <a:xfrm>
            <a:off x="333360" y="1657440"/>
            <a:ext cx="8477280" cy="35431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504720" cy="4125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3"/>
          <a:stretch/>
        </p:blipFill>
        <p:spPr>
          <a:xfrm>
            <a:off x="684360" y="2276640"/>
            <a:ext cx="504720" cy="41256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4"/>
          <a:stretch/>
        </p:blipFill>
        <p:spPr>
          <a:xfrm>
            <a:off x="755640" y="3500280"/>
            <a:ext cx="504720" cy="4129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5"/>
          <a:stretch/>
        </p:blipFill>
        <p:spPr>
          <a:xfrm>
            <a:off x="755640" y="4076640"/>
            <a:ext cx="504720" cy="4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187200" y="1108080"/>
            <a:ext cx="8771040" cy="3438360"/>
          </a:xfrm>
          <a:prstGeom prst="rect">
            <a:avLst/>
          </a:prstGeom>
          <a:ln w="0">
            <a:noFill/>
          </a:ln>
        </p:spPr>
      </p:pic>
      <p:pic>
        <p:nvPicPr>
          <p:cNvPr id="1122" name="图片 3" descr=""/>
          <p:cNvPicPr/>
          <p:nvPr/>
        </p:nvPicPr>
        <p:blipFill>
          <a:blip r:embed="rId2"/>
          <a:stretch/>
        </p:blipFill>
        <p:spPr>
          <a:xfrm>
            <a:off x="1763640" y="4657680"/>
            <a:ext cx="6132600" cy="110484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684360" y="4149720"/>
            <a:ext cx="504720" cy="4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图片 1" descr=""/>
          <p:cNvPicPr/>
          <p:nvPr/>
        </p:nvPicPr>
        <p:blipFill>
          <a:blip r:embed="rId1"/>
          <a:stretch/>
        </p:blipFill>
        <p:spPr>
          <a:xfrm>
            <a:off x="204840" y="1362240"/>
            <a:ext cx="8732880" cy="41335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505080" cy="41256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3"/>
          <a:stretch/>
        </p:blipFill>
        <p:spPr>
          <a:xfrm>
            <a:off x="539640" y="3789360"/>
            <a:ext cx="505080" cy="4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339840" y="851040"/>
            <a:ext cx="8466120" cy="588636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504720" cy="4129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3"/>
          <a:stretch/>
        </p:blipFill>
        <p:spPr>
          <a:xfrm>
            <a:off x="684360" y="3860640"/>
            <a:ext cx="504720" cy="4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图片 1" descr=""/>
          <p:cNvPicPr/>
          <p:nvPr/>
        </p:nvPicPr>
        <p:blipFill>
          <a:blip r:embed="rId1"/>
          <a:stretch/>
        </p:blipFill>
        <p:spPr>
          <a:xfrm>
            <a:off x="252360" y="873000"/>
            <a:ext cx="863748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15:09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